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499F-0E18-47FF-AC37-D88ECD14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A0C-77EE-4FA2-8796-2C5F46D3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793-4E08-4AA7-8A69-0AB1AF2D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BDB-48B8-42DA-A482-1F3E67F0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DC8-6BDE-47AE-9E1D-988A4146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357-CCBB-444A-BDB4-72BF1145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AA2-D3F7-41FD-95E4-221E2D4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141-C904-448A-AFBC-A221A78F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ED2-14DF-427A-80C4-409E7635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06C-836B-4DBC-B1AA-315A1FC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7F3-19AC-4678-8C09-F3CFBE2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EB5-7C44-4A61-A0F9-0327D403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4274-4F74-4305-80FA-FAD1ABE00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7600" cy="1397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110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76920" y="160020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848360" cy="5297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2514600"/>
            <a:ext cx="6094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352680"/>
            <a:ext cx="6098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514600"/>
            <a:ext cx="8380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352680"/>
            <a:ext cx="9144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2438280"/>
            <a:ext cx="609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352680"/>
            <a:ext cx="6094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4191120"/>
            <a:ext cx="23623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117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0592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001000" cy="102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4582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37:18Z</dcterms:created>
  <dc:creator>Graham</dc:creator>
  <dc:description/>
  <dc:language>en-US</dc:language>
  <cp:lastModifiedBy>Graham</cp:lastModifiedBy>
  <dcterms:modified xsi:type="dcterms:W3CDTF">2012-09-30T18:37:22Z</dcterms:modified>
  <cp:revision>1</cp:revision>
  <dc:subject/>
  <dc:title>Slide 1</dc:title>
</cp:coreProperties>
</file>